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by102.wav" ContentType="audio/x-wav"/>
  <Override PartName="/ppt/media/children%20wow.wav" ContentType="audio/x-wav"/>
  <Override PartName="/ppt/media/zipdn102.wav" ContentType="audio/x-wav"/>
  <Override PartName="/ppt/media/PROJCTOR.WAV" ContentType="audio/x-wav"/>
  <Override PartName="/ppt/media/zapbig0g.wav" ContentType="audio/x-wav"/>
  <Override PartName="/ppt/media/camera.wav" ContentType="audio/x-wav"/>
  <Override PartName="/ppt/media/highchime.wav" ContentType="audio/x-wav"/>
  <Override PartName="/ppt/media/boinng04.wav" ContentType="audio/x-wav"/>
  <Override PartName="/ppt/media/partyhorn.wav" ContentType="audio/x-wav"/>
  <Override PartName="/ppt/media/bserie06.wav" ContentType="audio/x-wav"/>
  <Override PartName="/ppt/media/caralarmoff.wav" ContentType="audio/x-wav"/>
  <Override PartName="/ppt/media/hzipup01.wav" ContentType="audio/x-wav"/>
  <Override PartName="/ppt/media/glass.wav" ContentType="audio/x-wav"/>
  <Override PartName="/ppt/media/peopleooo.wav" ContentType="audio/x-wav"/>
  <Override PartName="/ppt/media/zipup2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7C3-5AC5-4257-9785-95FEEDDC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3E6-F3BE-4467-9539-7FCC4F7E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54C-F1DE-4295-9789-A1955037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64E-DAB1-40D0-AB11-4A6F23E0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B43-610F-48A8-8E4E-97B91FDA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769-CC8D-4FE5-BCFA-91EED695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084-51F3-4331-B313-1BD447D8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870-45C2-4EBB-AF45-9B2EAD3C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DB4-9DED-40D5-B312-ED976D39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228-9F9B-479B-B903-6091AF89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0CF-285C-4B9F-A3D3-144A0B5D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6A4-FB29-4B31-893A-A50CADEA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6D55-6A37-4EFC-8BE4-C75AAA488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PROJCTOR.WAV"/><Relationship Id="rId3" Type="http://schemas.openxmlformats.org/officeDocument/2006/relationships/audio" Target="../media/highchime.wav"/><Relationship Id="rId4" Type="http://schemas.openxmlformats.org/officeDocument/2006/relationships/audio" Target="../media/partyhorn.wav"/><Relationship Id="rId5" Type="http://schemas.openxmlformats.org/officeDocument/2006/relationships/audio" Target="../media/partyhorn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ipup202.wav"/><Relationship Id="rId9" Type="http://schemas.openxmlformats.org/officeDocument/2006/relationships/audio" Target="../media/hzipup01.wav"/><Relationship Id="rId10" Type="http://schemas.openxmlformats.org/officeDocument/2006/relationships/audio" Target="../media/peopleooo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hzipup01.wav"/><Relationship Id="rId15" Type="http://schemas.openxmlformats.org/officeDocument/2006/relationships/audio" Target="../media/peopleooo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hzipup01.wav"/><Relationship Id="rId8" Type="http://schemas.openxmlformats.org/officeDocument/2006/relationships/audio" Target="../media/peopleooo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hzipup01.wav"/><Relationship Id="rId8" Type="http://schemas.openxmlformats.org/officeDocument/2006/relationships/audio" Target="../media/peopleooo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hzipup01.wav"/><Relationship Id="rId7" Type="http://schemas.openxmlformats.org/officeDocument/2006/relationships/audio" Target="../media/peopleooo.wav"/><Relationship Id="rId8" Type="http://schemas.openxmlformats.org/officeDocument/2006/relationships/audio" Target="../media/glass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up202.wav"/><Relationship Id="rId13" Type="http://schemas.openxmlformats.org/officeDocument/2006/relationships/audio" Target="../media/hzipup01.wav"/><Relationship Id="rId14" Type="http://schemas.openxmlformats.org/officeDocument/2006/relationships/audio" Target="../media/peopleooo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by102.wav"/><Relationship Id="rId9" Type="http://schemas.openxmlformats.org/officeDocument/2006/relationships/audio" Target="../media/boinng04.wav"/><Relationship Id="rId10" Type="http://schemas.openxmlformats.org/officeDocument/2006/relationships/audio" Target="../media/zipby102.wav"/><Relationship Id="rId11" Type="http://schemas.openxmlformats.org/officeDocument/2006/relationships/audio" Target="../media/boinng04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artyhorn.wav"/><Relationship Id="rId2" Type="http://schemas.openxmlformats.org/officeDocument/2006/relationships/audio" Target="../media/glass.wav"/><Relationship Id="rId3" Type="http://schemas.openxmlformats.org/officeDocument/2006/relationships/audio" Target="../media/caralarmoff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zipup202.wav"/><Relationship Id="rId8" Type="http://schemas.openxmlformats.org/officeDocument/2006/relationships/audio" Target="../media/hzipup01.wav"/><Relationship Id="rId9" Type="http://schemas.openxmlformats.org/officeDocument/2006/relationships/audio" Target="../media/peopleooo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up202.wav"/><Relationship Id="rId13" Type="http://schemas.openxmlformats.org/officeDocument/2006/relationships/audio" Target="../media/hzipup01.wav"/><Relationship Id="rId14" Type="http://schemas.openxmlformats.org/officeDocument/2006/relationships/audio" Target="../media/peopleooo.wav"/><Relationship Id="rId15" Type="http://schemas.openxmlformats.org/officeDocument/2006/relationships/audio" Target="../media/zipby102.wav"/><Relationship Id="rId16" Type="http://schemas.openxmlformats.org/officeDocument/2006/relationships/audio" Target="../media/zipby102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caralarmoff.wav"/><Relationship Id="rId20" Type="http://schemas.openxmlformats.org/officeDocument/2006/relationships/audio" Target="../media/children%20wow.wav"/><Relationship Id="rId21" Type="http://schemas.openxmlformats.org/officeDocument/2006/relationships/audio" Target="../media/caralarmoff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children%20wow.wav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hzipup01.wav"/><Relationship Id="rId8" Type="http://schemas.openxmlformats.org/officeDocument/2006/relationships/audio" Target="../media/peopleooo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audio" Target="../media/zipby102.wav"/><Relationship Id="rId15" Type="http://schemas.openxmlformats.org/officeDocument/2006/relationships/audio" Target="../media/zipby102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children%20wow.wav"/><Relationship Id="rId20" Type="http://schemas.openxmlformats.org/officeDocument/2006/relationships/audio" Target="../media/caralarmoff.wav"/><Relationship Id="rId21" Type="http://schemas.openxmlformats.org/officeDocument/2006/relationships/audio" Target="../media/caralarmoff.wav"/><Relationship Id="rId22" Type="http://schemas.openxmlformats.org/officeDocument/2006/relationships/audio" Target="../media/caralarmoff.wav"/><Relationship Id="rId23" Type="http://schemas.openxmlformats.org/officeDocument/2006/relationships/audio" Target="../media/children%20wow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hzipup01.wav"/><Relationship Id="rId8" Type="http://schemas.openxmlformats.org/officeDocument/2006/relationships/audio" Target="../media/peopleooo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audio" Target="../media/zipby102.wav"/><Relationship Id="rId15" Type="http://schemas.openxmlformats.org/officeDocument/2006/relationships/audio" Target="../media/zipby102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children%20wow.wav"/><Relationship Id="rId20" Type="http://schemas.openxmlformats.org/officeDocument/2006/relationships/audio" Target="../media/caralarmoff.wav"/><Relationship Id="rId21" Type="http://schemas.openxmlformats.org/officeDocument/2006/relationships/audio" Target="../media/caralarmoff.wav"/><Relationship Id="rId22" Type="http://schemas.openxmlformats.org/officeDocument/2006/relationships/audio" Target="../media/caralarmoff.wav"/><Relationship Id="rId23" Type="http://schemas.openxmlformats.org/officeDocument/2006/relationships/audio" Target="../media/children%20wow.wav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676520"/>
            <a:ext cx="8686800" cy="40338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175572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ero-Product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73040" y="4719600"/>
                <a:ext cx="2465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737240" y="4667400"/>
                <a:ext cx="2465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49440" y="2281320"/>
            <a:ext cx="76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if the product of two factors is zero, then at least one of the factors must be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11480" y="3941640"/>
                <a:ext cx="4535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46120" y="1701720"/>
                <a:ext cx="4454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77960" y="2414520"/>
                <a:ext cx="24620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983040" y="2370240"/>
                <a:ext cx="2465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24000" y="300816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71600" y="301140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37000" y="297504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504040" y="296064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84080" y="3732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9280" y="37353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60680" y="3889440"/>
                <a:ext cx="558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32000" y="3687840"/>
                <a:ext cx="1063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871880" y="3875040"/>
                <a:ext cx="559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33840" y="3672000"/>
                <a:ext cx="1455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22360" y="1701720"/>
                <a:ext cx="4502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49160" y="2359080"/>
                <a:ext cx="251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011480" y="2314440"/>
                <a:ext cx="2408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24000" y="300816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271600" y="301140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492800" y="3002040"/>
                <a:ext cx="896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559480" y="2987640"/>
                <a:ext cx="895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84080" y="3732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9280" y="37353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31880" y="3807000"/>
                <a:ext cx="615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232000" y="3687840"/>
                <a:ext cx="1063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843440" y="379080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405400" y="3681360"/>
                <a:ext cx="952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0720" y="1701720"/>
                <a:ext cx="4645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20720" y="2414520"/>
                <a:ext cx="25765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956040" y="2370240"/>
                <a:ext cx="2519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24000" y="2981160"/>
                <a:ext cx="10080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71600" y="2982960"/>
                <a:ext cx="1008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37000" y="297324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504040" y="2960640"/>
                <a:ext cx="100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84080" y="3732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9280" y="37353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631880" y="386244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05000" y="3714840"/>
                <a:ext cx="14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843440" y="384660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86320" y="3689280"/>
                <a:ext cx="14018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65200" y="1692360"/>
                <a:ext cx="325584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336680" y="2433600"/>
                <a:ext cx="2352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599080" y="2314440"/>
                <a:ext cx="2519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28720" y="300996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76680" y="299232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0040" y="297324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147080" y="2960640"/>
                <a:ext cx="100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289160" y="375120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02320" y="37353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20840" y="3825720"/>
                <a:ext cx="447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17640" y="3706920"/>
                <a:ext cx="1065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486480" y="382896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029360" y="3689280"/>
                <a:ext cx="14018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19760" y="1639800"/>
                <a:ext cx="33987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847800" y="1709640"/>
                <a:ext cx="3735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43080" y="2395440"/>
                <a:ext cx="2913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01680" y="2998800"/>
                <a:ext cx="1008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149640" y="2981160"/>
                <a:ext cx="100800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662120" y="371304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341440" y="3760920"/>
                <a:ext cx="952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192480" y="3770280"/>
                <a:ext cx="14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32240" y="5508720"/>
                <a:ext cx="6156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39920" y="5321160"/>
                <a:ext cx="1459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370240" y="444168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72080" y="4444920"/>
            <a:ext cx="8204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63920" y="4427640"/>
                <a:ext cx="5601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67200" y="441180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5520" y="1770120"/>
                <a:ext cx="4454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Intercepts and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s and the vertex of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6160" y="2414520"/>
                <a:ext cx="246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040280" y="2370240"/>
                <a:ext cx="2351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224000" y="295272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71600" y="295596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05400" y="291132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10160" y="2913120"/>
                <a:ext cx="893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71480" y="363204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46680" y="36352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619280" y="3762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20840" y="3587760"/>
                <a:ext cx="13986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830840" y="374652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373720" y="3616200"/>
                <a:ext cx="1401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764400" y="3281400"/>
            <a:ext cx="237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se are the 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-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4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the vertex, find the average of the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-inter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60520" y="4637160"/>
                <a:ext cx="144612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957320" y="4637160"/>
                <a:ext cx="12765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00400" y="4987800"/>
                <a:ext cx="1106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121360" y="5056200"/>
                <a:ext cx="2865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641920" y="1793880"/>
                <a:ext cx="33195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669000" y="2389320"/>
                <a:ext cx="14479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8080200" y="2443320"/>
                <a:ext cx="1063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29560" y="5121360"/>
                <a:ext cx="880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8000" y="1770120"/>
                <a:ext cx="4549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Intercepts and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s and the vertex of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76160" y="2414520"/>
                <a:ext cx="246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84480" y="2370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97000" y="2979720"/>
                <a:ext cx="1063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44600" y="2982960"/>
                <a:ext cx="10638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421160" y="291132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427720" y="2913120"/>
                <a:ext cx="10605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71480" y="363204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46680" y="36352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619280" y="3762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19400" y="3586320"/>
                <a:ext cx="1063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30840" y="374652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465880" y="3570120"/>
                <a:ext cx="106524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764400" y="3281400"/>
            <a:ext cx="237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se are the 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-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14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the vertex, find the average of the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-inter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87240" y="4637160"/>
                <a:ext cx="11908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22400" y="4637160"/>
                <a:ext cx="8938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832120" y="4979880"/>
                <a:ext cx="7650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369040" y="5056200"/>
                <a:ext cx="2368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215040" y="1730520"/>
                <a:ext cx="25970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669000" y="2389320"/>
                <a:ext cx="14479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080200" y="2443320"/>
                <a:ext cx="1063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603840" y="5146560"/>
                <a:ext cx="8812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25520" y="1770120"/>
                <a:ext cx="4454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Intercepts and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s and the vertex of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1960" y="2414520"/>
                <a:ext cx="2352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984480" y="2370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81240" y="2979720"/>
                <a:ext cx="895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328840" y="2982960"/>
                <a:ext cx="895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448160" y="2884320"/>
                <a:ext cx="1009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54720" y="2886120"/>
                <a:ext cx="1004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771480" y="363204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46680" y="36352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19280" y="3762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74840" y="3586320"/>
                <a:ext cx="951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30840" y="374652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297400" y="3543480"/>
                <a:ext cx="1401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764400" y="3281400"/>
            <a:ext cx="237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se are the 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-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414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the vertex, find the average of the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-inter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50960" y="4637160"/>
                <a:ext cx="10620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770120" y="4637160"/>
                <a:ext cx="12762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911320" y="4989600"/>
                <a:ext cx="1105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121360" y="5056200"/>
                <a:ext cx="2863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853240" y="1730520"/>
                <a:ext cx="33210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605640" y="2389320"/>
                <a:ext cx="15746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059680" y="24224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788160" y="5068800"/>
                <a:ext cx="9907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3-02-04T16:18:43Z</dcterms:modified>
  <cp:revision>6</cp:revision>
  <dc:subject/>
  <dc:title>Slide 1</dc:title>
</cp:coreProperties>
</file>